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826A-DB2F-401E-BE82-FD03F250C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6C66-9DF2-4F61-A6AA-BD3C5D812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12A3-F6AB-4206-ABE6-87861CFE2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32AE-9FB4-4BB5-8466-7D6254DAE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0676-5EF3-48EC-A2A5-1EABD2D7F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1225-E448-405A-A044-5CE200757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6119-6537-4AE6-A5B4-6DE903F97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BA4-7DE4-46E2-877F-5D1B5687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B47-778B-49AF-A493-C27CDD93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7E6-B3C8-46DF-AB94-1E8F1F1C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6E9-F59E-45A6-BAEC-D439332C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EBE-9E58-4293-B880-F3617ED0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6E0-DBEF-4574-A981-0FDABE80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53C-EBEF-4FC8-86E1-64988FFC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F07-468A-4A89-88A0-DFBBCB75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ADC-42AA-4C3F-9666-301B0D20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433-F2A8-416B-8D50-5B6EC2BB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E0E-1B67-4A42-A5C5-2DA80930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40A-84BB-4BC2-9487-653ADFA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0988-E5C5-4D40-A19F-72D75F5F3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243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 Vietnam War</a:t>
            </a:r>
            <a:br>
              <a:rPr sz="44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t 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merican Popular Opin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W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962-197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048120"/>
            <a:ext cx="7162560" cy="35812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did the American Public lose faith in the Vietnam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at were some major events that illustrate the divide in the 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80880" y="1066680"/>
            <a:ext cx="845820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ther REALLY Bad things that were happ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y Lai Mass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.S. invaded Cambod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970, Nix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 Chi Minh Tra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how China &amp; Russia got supplies to Vietc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bodia was a free nation, but we bombe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nt State Shoot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st gone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Guard = 9 wounded, 4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 America Protest! (1962-19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1447920" y="0"/>
            <a:ext cx="4341600" cy="6858000"/>
            <a:chOff x="1447920" y="0"/>
            <a:chExt cx="4341600" cy="6858000"/>
          </a:xfrm>
        </p:grpSpPr>
        <p:pic>
          <p:nvPicPr>
            <p:cNvPr id="53" name="Picture 3" descr=""/>
            <p:cNvPicPr/>
            <p:nvPr/>
          </p:nvPicPr>
          <p:blipFill>
            <a:blip r:embed="rId1"/>
            <a:stretch/>
          </p:blipFill>
          <p:spPr>
            <a:xfrm>
              <a:off x="1447920" y="0"/>
              <a:ext cx="4341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Oval 4"/>
            <p:cNvSpPr/>
            <p:nvPr/>
          </p:nvSpPr>
          <p:spPr>
            <a:xfrm>
              <a:off x="3962160" y="5562360"/>
              <a:ext cx="129492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5"/>
          <p:cNvSpPr/>
          <p:nvPr/>
        </p:nvSpPr>
        <p:spPr>
          <a:xfrm>
            <a:off x="6019920" y="1600200"/>
            <a:ext cx="2895480" cy="3962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no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 N.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ig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 S.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373920" y="228600"/>
            <a:ext cx="2485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 Lai Massa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920" y="777960"/>
            <a:ext cx="8534160" cy="584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j0222017"/>
          <p:cNvPicPr/>
          <p:nvPr/>
        </p:nvPicPr>
        <p:blipFill>
          <a:blip r:embed="rId2"/>
          <a:stretch/>
        </p:blipFill>
        <p:spPr>
          <a:xfrm>
            <a:off x="7624800" y="5334120"/>
            <a:ext cx="15192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145680" y="152280"/>
            <a:ext cx="3042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nt State Shoo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86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8001000" cy="54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8153280" cy="563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685800" y="838080"/>
            <a:ext cx="7848720" cy="555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j0222017"/>
          <p:cNvPicPr/>
          <p:nvPr/>
        </p:nvPicPr>
        <p:blipFill>
          <a:blip r:embed="rId5"/>
          <a:stretch/>
        </p:blipFill>
        <p:spPr>
          <a:xfrm>
            <a:off x="8005680" y="5562720"/>
            <a:ext cx="11383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80880" y="1066680"/>
            <a:ext cx="845820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ther REALLY Bad things that were happ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68 Democratic National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stors rioted = demanded future president withdraw tro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bby Kennedy is assassin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)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ntagon Papers are Published (1970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,000 page doc = details America lying to us about the war and other th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"/>
            <a:ext cx="82296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 America Protest! (1962-19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9:00:11Z</dcterms:created>
  <dc:creator>IT Department</dc:creator>
  <dc:description/>
  <dc:language>en-US</dc:language>
  <cp:lastModifiedBy>Administrator</cp:lastModifiedBy>
  <dcterms:modified xsi:type="dcterms:W3CDTF">2013-04-09T18:26:45Z</dcterms:modified>
  <cp:revision>6</cp:revision>
  <dc:subject/>
  <dc:title>The Vietnam War Part 3: American Popular Opinion  of The War (1962-1975)</dc:title>
</cp:coreProperties>
</file>